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56F83E-F086-485C-B20D-345D1A2ED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esson is about 9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234F44-1ACB-41D1-9F57-993635998707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: What is it? A tweet  Who wrote it? Hazel Healy  Did she write the article?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1C61FC-6DE5-4B7F-BCC1-B48CA9A11041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rify/elicit the nature of a tweet – 140 characters maximum. Students can write on slips to pass around, or onto the board(s) or flipchart paper and share and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87D7B3-416D-4502-AFC9-A6ECE645B6C7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 1) drowned  2) capsize  3)  dissuaded   4)  attempting  5) high (winds)  6) rough (seas)  7) 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1AFC40-E15A-4721-B4AD-4B9BB8E06B43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cut up words/phrases and definitions and get learners, in groups, to discuss and match. Or do this to the screen, or handou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 1/f   2/b   3/i   4/d   5/e   6/h  7/g  8/a   9/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9FBCBA-576D-4A1F-8082-9AC7AAFAFB5C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Refugee crisis in Lesbos gets worse as winter 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DD2E62-EC1E-479C-A49D-ECA516986C86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ugees in Lesbos wanting to escape to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5AF2B4-5953-4D4C-A216-088466018C72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predict answers in pairs and then read to check KEY: 1) Yes  2) Yes  3) Yes  4) Yes  5) No  6)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62EB9A-1AD7-4758-84D3-0D4014603D62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1) Yes  2) Yes  3)  No  4) Yes   5) 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F6CC64-26A7-4214-B613-16014D347663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F389-D91F-4D15-9486-4961B3F0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0839-C1A0-4E72-B40F-8EE3D1B3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C81B-0353-47B9-92E5-B43DE7D8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49D8-0246-4A84-A1C9-5CD4D84E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1E0D-B40A-49DB-80AE-619B6ECB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CF45-2961-47D2-90D6-2453AD03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37B5-C868-496A-A06E-4A237DAE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5124-69E8-4DFE-A2C9-F10A6B1F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1307-5FC3-44C5-B629-3ACDD909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DF3C-67C6-4667-8DFE-99C50651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03C4-EF49-42B7-B115-88107A9E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D19-226A-4531-86D2-4358C3BD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D380-0844-474A-911A-B02EDE6C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9B23-E408-4C67-A036-D980927E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835E-291B-4AF3-9204-48DA3612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945A-225B-43E0-B5F1-ADE19D37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8651-0CF4-499A-9786-120CA318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CEE6F-2A3A-4C60-A2C3-082C1999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EAD06-1C9A-441B-B945-0F32F73E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DA94F-06A2-4B32-B9DD-328DD0C9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F4B0B-CBAD-49C5-98C9-BF0C6FA3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A8C75-0D6B-4B42-8DBA-6556C90C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E727-EAF2-4558-9469-9F89162C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9988E-6921-482A-A71F-2F33EF78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6C57E-90DE-425D-9244-A6BC9863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AAAEF-67B3-43F3-AB1E-D903DC9A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F001B-E547-42C4-B534-20B3956E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F6F05-A976-412F-865C-F4AD2833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8890E-220D-454B-9122-18CA3D5F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9B6A2-A996-4414-8F7D-5562AB62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E5CC1-9004-45AA-95CF-BE1B4972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B8FCE-C4E5-4798-A10C-05AB9B43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43868-CA8A-4206-8879-BFD9C497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E6E-3264-4A2C-A006-6121DACD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52F37-8EE5-458E-9B9C-A02E8F57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E74BF-5FE5-4CB2-901A-D0A06E07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49D46-E563-44E5-AABA-095DF532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086D5-7664-4FBD-87CB-377F7A13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7540C-D887-4B31-9FC0-4A58E56E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82902-9AAB-4571-B709-BBC7C7AC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7AEBA-E578-45E6-825D-7AE7D020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0F17F-FF3C-49F9-8253-B06E223D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1EDA7-9615-42CD-AEED-9A21A2D6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B30-5FE3-4216-AF89-F31D40EF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6934-651B-497C-B034-C2170509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D71-FE42-4ACB-B2E9-B2D87770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6FC6-6E06-4593-A8E1-71027352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161-B752-429D-B150-2ED26452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A25020-5399-4034-8D03-91D215C98C4F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1E4899-A146-4A8C-9F74-C678FF61A707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D31399-8D33-4AFE-AD94-B4FFBC1177BA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592784-2269-4D01-AB99-6FA3523AFFFE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newint.org/blog/2015/11/04/refugee-crisis-worsens-in-lesbos-as-winter-looms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827820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Ref                           </a:t>
            </a: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Refugees in</a:t>
            </a:r>
            <a:br>
              <a:rPr sz="6000"/>
            </a:b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                   Lesb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-Intermediat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Internationalis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sier English ready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3949200" y="148680"/>
            <a:ext cx="5175000" cy="1292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395640" y="1333800"/>
            <a:ext cx="4334400" cy="288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we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Hazel He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@hazel_h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rst night on Lesbos. Arrived and  heard a ship sank, hundreds of refugees died in the se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755640" y="1484640"/>
            <a:ext cx="1616760" cy="16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we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en-GB" sz="4800" spc="-1" strike="noStrike">
                <a:solidFill>
                  <a:srgbClr val="1f497d"/>
                </a:solidFill>
                <a:latin typeface="Calibri"/>
              </a:rPr>
              <a:t>Write a tweet about the situation in Lesbos to the head of your government. A tweet can only be 140 characters at mos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5940000" y="332640"/>
            <a:ext cx="1804680" cy="12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Read the original article and find words which me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died in the sea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when boats turn over in the sea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advised not to do something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trying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strong (winds)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dangerous (seas)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route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wint.org/blog/2015/11/04/refugee-crisis-worsens-in-lesbos-as-winter-loom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6300360" y="3861000"/>
            <a:ext cx="1810800" cy="12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oday’s less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1f497d"/>
              </a:buClr>
              <a:buFont typeface="Arial"/>
              <a:buChar char="•"/>
            </a:pPr>
            <a:r>
              <a:rPr b="1" lang="en-GB" sz="7200" spc="-1" strike="noStrike">
                <a:solidFill>
                  <a:srgbClr val="1f497d"/>
                </a:solidFill>
                <a:latin typeface="Calibri"/>
              </a:rPr>
              <a:t>Vocabulary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1f497d"/>
              </a:buClr>
              <a:buFont typeface="Arial"/>
              <a:buChar char="•"/>
            </a:pPr>
            <a:r>
              <a:rPr b="1" lang="en-GB" sz="7200" spc="-1" strike="noStrike">
                <a:solidFill>
                  <a:srgbClr val="1f497d"/>
                </a:solidFill>
                <a:latin typeface="Calibri"/>
              </a:rPr>
              <a:t>Read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1f497d"/>
              </a:buClr>
              <a:buFont typeface="Arial"/>
              <a:buChar char="•"/>
            </a:pPr>
            <a:r>
              <a:rPr b="1" lang="en-GB" sz="7200" spc="-1" strike="noStrike">
                <a:solidFill>
                  <a:srgbClr val="1f497d"/>
                </a:solidFill>
                <a:latin typeface="Calibri"/>
              </a:rPr>
              <a:t>Writ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5652000" y="1484640"/>
            <a:ext cx="294120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640" y="116640"/>
            <a:ext cx="2592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Mat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302400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1/ refug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2/ resc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3/ equi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4/ urg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5/ 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6/ impro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7/ leg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8/ sa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9/ rou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915640" y="116640"/>
            <a:ext cx="6228000" cy="674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a)  opposite of danger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b)  help someone from a danger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sit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c)  way to go from one place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an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d)  very, ver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e)  look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AutoNum type="alphaLcParenR" startAt="6"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person who wants to go to another country because of dang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g)   Ok with the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h)   get b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i)    machin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00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ut the headline in the right 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worse 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winter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a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Refugee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Lesbo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crisi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in 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get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comes.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55200" y="1630800"/>
            <a:ext cx="259488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o are they? Where are they? Why are they t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222200" y="1700640"/>
            <a:ext cx="6818760" cy="45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at do you thin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7640" y="1388880"/>
            <a:ext cx="822924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1 A woman wrote the article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2 There are  refugees  in Lesbos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3 Lesbos is in Greece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4 Lesbos is an island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5 Lesbos is 100 km from Turkey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6 60 refugees died in 5 days. Possibl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ow read and check your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271440" y="131400"/>
            <a:ext cx="180468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364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In the 5 days Hazel was on Lesbos, she heard  more than 60 people died in the Aegean Sea trying to get to Europe. About half of these were children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Refugees have not stopped crossing the dangerous 10km of water from Turkey because of bad winter weather. More of them are crossing now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There are strong winds and rough seas. The rescue boats do not have enough money or equipment. So many refugee boats often do not get across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ad again and find the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1268640"/>
            <a:ext cx="8229240" cy="511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1 About 30 children died in the sea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2 The weather is a big problem for the boats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3 The boats are in good condition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4 Most of the refugees on their way to Euro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died in October this year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5 Countries must make it easier for refug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to go to Europe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6588360" y="5373360"/>
            <a:ext cx="180468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e 5 days Hazel was on Lesbos, more than 60 people died in the Aegean Sea trying to get to Europe. About half of these were child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fugees have not stopped crossing the dangerous 10km of water from Turkey because of bad winter weather. More of them are crossing n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re are strong winds and rough seas. The rescue boats do not have enough money or equipment. So many refugee boats often do not get acro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undreds of people have died trying to get to Europe this year, half of them in October. The United Nations High Commissioner for Refugees said it is urgent for search-and-rescue to improve. He says countries must make more legal, safe routes for refugees to get to Eur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  <Words>794</Words>
  <Paragraphs>10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1T14:21:53Z</dcterms:created>
  <dc:creator>windows 7 image</dc:creator>
  <dc:description/>
  <dc:language>en-US</dc:language>
  <cp:lastModifiedBy>Linda Ruas</cp:lastModifiedBy>
  <dcterms:modified xsi:type="dcterms:W3CDTF">2015-12-02T19:38:42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On-screen Show (4:3)</vt:lpwstr>
  </property>
  <property fmtid="{D5CDD505-2E9C-101B-9397-08002B2CF9AE}" pid="4" name="Slides">
    <vt:r8>12</vt:r8>
  </property>
</Properties>
</file>